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895-D594-4365-9931-09870D49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270-9708-433C-822D-9EC5F4C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652-BF7B-4029-BE2D-A819D556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E7E-9F8A-4268-94F0-9B50C0E6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9CE-5546-45FA-9F17-0E1E9871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B75-9156-4068-BDA5-1A277C85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CF2-C56A-4C0A-BE9A-F8F63F20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5AA-A69D-40D5-A5EC-BAF46A8E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073-5CD7-4D13-897B-2B6EAC2A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69B-2E27-42D7-B204-5D0BD594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4AB-4301-4526-A7AD-3C8E473C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B7E-2FC2-4CF6-8E95-F794902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95DB-A8E9-435F-8DB5-03B19BF2A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12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3.jpe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15.jpe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image" Target="../media/image16.jpe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7.jpe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image" Target="../media/image18.jpeg"/><Relationship Id="rId5" Type="http://schemas.openxmlformats.org/officeDocument/2006/relationships/hyperlink" Target="file:///usr/lib/libreoffice/share/gallery/sounds/laser.wav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20.jpe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image" Target="../media/image13.jpe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d1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2560" y="96192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бюджет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развития ребёнка - детский сад «Алёнушка» д. Алексеев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района Уфимский район Республики Башкортостан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к организационной образовательной деятельности по познавательному развитию с детьми средней группы на тему: «Путешествие по стране транспор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603400" y="579132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высшей категор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ткулова Фания Марат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"/>
          <p:cNvPicPr/>
          <p:nvPr/>
        </p:nvPicPr>
        <p:blipFill>
          <a:blip r:embed="rId1"/>
          <a:stretch/>
        </p:blipFill>
        <p:spPr>
          <a:xfrm>
            <a:off x="387360" y="152280"/>
            <a:ext cx="790560" cy="80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1066680"/>
            <a:ext cx="624816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кате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304920"/>
            <a:ext cx="381024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РјРѕС‚РѕС†РёРєР»[1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2000" y="34290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Р»РѕРґРєР°[2]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5120" y="304920"/>
            <a:ext cx="4048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самосва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3962160" cy="269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грузов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28600"/>
            <a:ext cx="4114800" cy="2725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лодк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16160" y="3462480"/>
            <a:ext cx="41004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трактор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505320"/>
            <a:ext cx="3886200" cy="249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вертолёт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ЃР°РјРѕР»С‘С‚[1]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13280" y="3505320"/>
            <a:ext cx="377352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автомобиль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28600"/>
            <a:ext cx="3810240" cy="254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јРѕС‚РѕС†РёРєР»[1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24160" y="3429000"/>
            <a:ext cx="3733920" cy="261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СЃР°РјРѕР»С‘С‚[1]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179280"/>
            <a:ext cx="38102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285840" y="380880"/>
            <a:ext cx="857232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7232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879480" y="228600"/>
            <a:ext cx="796752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"/>
          <p:cNvPicPr/>
          <p:nvPr/>
        </p:nvPicPr>
        <p:blipFill>
          <a:blip r:embed="rId1"/>
          <a:srcRect l="50003" t="0" r="0" b="0"/>
          <a:stretch/>
        </p:blipFill>
        <p:spPr>
          <a:xfrm>
            <a:off x="-25560" y="762120"/>
            <a:ext cx="9169560" cy="6095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-33480" y="1440"/>
            <a:ext cx="9171000" cy="213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896760"/>
            <a:ext cx="8153280" cy="57643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-117360" y="620640"/>
            <a:ext cx="929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Страна Транспорта. Улица «Наземная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655560" y="0"/>
            <a:ext cx="7832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655560" y="0"/>
            <a:ext cx="7832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1295280" y="254160"/>
            <a:ext cx="5962680" cy="63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285840" y="666720"/>
            <a:ext cx="8572320" cy="552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285840" y="380880"/>
            <a:ext cx="857232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фания маматкулова</cp:lastModifiedBy>
  <dcterms:modified xsi:type="dcterms:W3CDTF">2022-01-20T15:49:14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